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859602"/>
        <c:axId val="1306411"/>
      </c:barChart>
      <c:catAx>
        <c:axId val="44859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6411"/>
        <c:crosses val="autoZero"/>
        <c:auto val="1"/>
        <c:lblAlgn val="ctr"/>
        <c:lblOffset val="100"/>
        <c:noMultiLvlLbl val="0"/>
      </c:catAx>
      <c:valAx>
        <c:axId val="1306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859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308-43FB-4370-A0B1-1F719587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514-99BE-4A14-AA77-B017C2B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FEE-E3AF-4298-BF01-88A82BF4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E8B-24A2-429F-948E-8B2516EF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F3F3-A292-4409-BFED-6C91F308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36CB-954E-4507-B3AD-A3F6DA74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E49-D056-4E41-97D8-28251E42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1FF-4C8E-4AB9-BE56-FD02A385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0EC-A00C-42B9-85E3-D31EC94C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4744-076C-451D-803E-BE010B8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164-89C4-4D21-A340-284E5899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FF7A-B94A-4BC7-A382-89D9C768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77BF4-34DE-47F3-AABD-F5D95E8887F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