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38531"/>
        <c:axId val="12451935"/>
      </c:barChart>
      <c:catAx>
        <c:axId val="69538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1935"/>
        <c:crosses val="autoZero"/>
        <c:auto val="1"/>
        <c:lblAlgn val="ctr"/>
        <c:lblOffset val="100"/>
        <c:noMultiLvlLbl val="0"/>
      </c:catAx>
      <c:valAx>
        <c:axId val="12451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38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7F4-88A9-4517-999A-26ABB845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A8E-44D6-4D86-A0B4-B3CE0659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FAA-3F61-4AFF-817C-50D6B859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077-7394-42DC-AA60-34BCE3EE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36E-A755-43EC-B7F0-F88F7058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E3A-3FEA-40A4-B4BB-A847E536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4F7-94B9-437D-9606-1BB88F80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6AE-714E-477A-8824-04A13823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B2B-A0B5-4B8A-8B0D-CAEB48A5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106-153B-45C6-B14A-B7245BB9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770-8D2D-46B8-AB83-A160D9FE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026-93D5-4E79-A271-77B9499A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3222D-0DD2-487B-8A97-86E5F35AC1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